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3DB7-0133-44EE-AF86-9E0AE7A0A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E9DC-CF3D-4B20-B074-333773CEC8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26B7-E978-400D-889F-899D1CC017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4CE8-6A9A-4818-815D-B126A7CAC2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85DA-C134-49F2-819C-9841CA59B6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BBCB-D6E4-45D3-99B0-4100793DBC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3520" y="1955880"/>
            <a:ext cx="8001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light waves strike an object, some of the waves are absorbed by the object, some are reflected by it, and some might pass through 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28600" y="228600"/>
            <a:ext cx="87631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ca22"/>
                </a:solidFill>
                <a:latin typeface="Times New Roman"/>
              </a:rPr>
              <a:t>Opaque, Translucent, and Transpa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33520" y="404172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appens to light when it strikes the object depends on the material that the object is made of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36360" y="0"/>
            <a:ext cx="9107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Opaque, Translucent, and Transpar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33520" y="3276720"/>
            <a:ext cx="3352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NOT see other objects through opaque material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8" descr="im07 wall"/>
          <p:cNvPicPr/>
          <p:nvPr/>
        </p:nvPicPr>
        <p:blipFill>
          <a:blip r:embed="rId1"/>
          <a:stretch/>
        </p:blipFill>
        <p:spPr>
          <a:xfrm>
            <a:off x="4114800" y="3505320"/>
            <a:ext cx="4724280" cy="30366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0"/>
          <p:cNvGrpSpPr/>
          <p:nvPr/>
        </p:nvGrpSpPr>
        <p:grpSpPr>
          <a:xfrm>
            <a:off x="533520" y="1219320"/>
            <a:ext cx="8076960" cy="1394280"/>
            <a:chOff x="533520" y="1219320"/>
            <a:chExt cx="8076960" cy="1394280"/>
          </a:xfrm>
        </p:grpSpPr>
        <p:sp>
          <p:nvSpPr>
            <p:cNvPr id="50" name="Text Box 2"/>
            <p:cNvSpPr/>
            <p:nvPr/>
          </p:nvSpPr>
          <p:spPr>
            <a:xfrm>
              <a:off x="533520" y="1219320"/>
              <a:ext cx="8076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objects reflect and absorb some light waves. Materials that let no light pass through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898560" y="2081160"/>
              <a:ext cx="7026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m ar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OPAQUE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(oh PAYK)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33520" y="2060640"/>
            <a:ext cx="41148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the other hand, you clearly can see other objects through materials such as glass and clear plastic that allow nearly all the light that strikes them to pass throug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593720" y="633240"/>
            <a:ext cx="5112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Opaque, Translucent, and Transpar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971960" y="4746600"/>
            <a:ext cx="379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materials ar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PAR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8" descr="im08 window"/>
          <p:cNvPicPr/>
          <p:nvPr/>
        </p:nvPicPr>
        <p:blipFill>
          <a:blip r:embed="rId1"/>
          <a:stretch/>
        </p:blipFill>
        <p:spPr>
          <a:xfrm>
            <a:off x="4643280" y="2133720"/>
            <a:ext cx="4038840" cy="25556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6629400" y="380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in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57200" y="1219320"/>
            <a:ext cx="37339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hird type of material allows only some light to pass throug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52280" y="228600"/>
            <a:ext cx="883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Opaque, Translucent, and Transpar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85800" y="43434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objects behind these materials are visible, they are not clea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Picture 9" descr="im09 translucent"/>
          <p:cNvPicPr/>
          <p:nvPr/>
        </p:nvPicPr>
        <p:blipFill>
          <a:blip r:embed="rId1"/>
          <a:stretch/>
        </p:blipFill>
        <p:spPr>
          <a:xfrm>
            <a:off x="4267080" y="1143000"/>
            <a:ext cx="43689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28600" y="228600"/>
            <a:ext cx="853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Opaque, Translucent, and Transpar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1828800"/>
            <a:ext cx="38098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materials, such as waxed paper and frosted glass, are TRANSLUCENT (trans LEW sent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12" descr="im09 translucent"/>
          <p:cNvPicPr/>
          <p:nvPr/>
        </p:nvPicPr>
        <p:blipFill>
          <a:blip r:embed="rId1"/>
          <a:stretch/>
        </p:blipFill>
        <p:spPr>
          <a:xfrm>
            <a:off x="4172040" y="1828800"/>
            <a:ext cx="43686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15:26:19Z</dcterms:created>
  <dc:creator>Cherie Hatton</dc:creator>
  <dc:description/>
  <dc:language>en-US</dc:language>
  <cp:lastModifiedBy>St. Aloysius</cp:lastModifiedBy>
  <dcterms:modified xsi:type="dcterms:W3CDTF">2012-12-10T16:23:03Z</dcterms:modified>
  <cp:revision>37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38499541</vt:r8>
  </property>
  <property fmtid="{D5CDD505-2E9C-101B-9397-08002B2CF9AE}" pid="3" name="_AuthorEmail">
    <vt:lpwstr>benson.122@osu.edu</vt:lpwstr>
  </property>
  <property fmtid="{D5CDD505-2E9C-101B-9397-08002B2CF9AE}" pid="4" name="_AuthorEmailDisplayName">
    <vt:lpwstr>Kara Benson</vt:lpwstr>
  </property>
  <property fmtid="{D5CDD505-2E9C-101B-9397-08002B2CF9AE}" pid="5" name="_EmailSubject">
    <vt:lpwstr>PS 641</vt:lpwstr>
  </property>
  <property fmtid="{D5CDD505-2E9C-101B-9397-08002B2CF9AE}" pid="6" name="_ReviewingToolsShownOnce">
    <vt:lpwstr/>
  </property>
</Properties>
</file>